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49768-454A-4800-B6C2-21462E3DF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87978-4005-46A8-94D8-E31054EB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6DAC3-F38F-472C-9B13-C426957F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A9EE5-96A5-4091-A063-81875AFC1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706F-1561-4D18-AD68-70867C0ED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7444-2676-4D91-A9F9-1B965C8A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465B-25FA-404D-BC36-84D1465F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4256-D52A-4758-8CDC-D7BAA8B7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5F37-7EBC-436A-BFB1-4C491EEB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07D3-B794-4BA5-8BCE-D23E0565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F8C3-D5A0-4698-9969-D7B4E4AD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53B3C-B383-4243-9746-9E0371CA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6760-AFAD-4F75-9ED4-63132026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228D-0E75-4DB0-BDCF-616CE067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01DC-1D2D-4D6C-8BDC-C218DD9C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01BD-8440-4093-944B-A4BBB0F38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1949-BBA6-43FC-A7CD-BFDAF1EB0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A91A1-A43D-4311-8D1C-1F057AA9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F07E8-8216-4353-8F64-ACCD0151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6F0E0-A99B-4818-B1EF-BCF19B33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A5A16-87A0-447C-B823-FB4058C6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08146-B2A0-42D2-AF1F-3A61F506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FF011-40A9-4930-BF63-A9B67AA0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C5002-6FF7-4841-913D-9DC89F32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0DEE-05FC-4B02-ADE2-D08703310A6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CBA9-9685-4F26-99C2-79F9BE90913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web.mit.edu/invent/iow/nissen.html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strangefunnyworld.com/wp-content/uploads/2011/03/trampoline-fail-400x400.jpg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 rot="20904600">
            <a:off x="838080" y="761760"/>
            <a:ext cx="7155000" cy="26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comic"/>
              </a:rPr>
              <a:t>T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comic"/>
              </a:rPr>
              <a:t>Trampoli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comic"/>
              <a:ea typeface="comic"/>
            </a:endParaRPr>
          </a:p>
        </p:txBody>
      </p:sp>
      <p:sp>
        <p:nvSpPr>
          <p:cNvPr id="127" name=""/>
          <p:cNvSpPr/>
          <p:nvPr/>
        </p:nvSpPr>
        <p:spPr>
          <a:xfrm rot="1764600">
            <a:off x="5787360" y="3732840"/>
            <a:ext cx="2971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rian Krist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cember 7, 2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eriod#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puter# 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5707080"/>
            <a:ext cx="83818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usic: Free Play Music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The Chili Stain,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cember 8, 2011,  </a:t>
            </a:r>
            <a:r>
              <a:rPr b="0" lang="en-US" sz="18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477120" y="304920"/>
            <a:ext cx="1868400" cy="1347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219320" y="4495680"/>
            <a:ext cx="1660320" cy="982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 rot="19545600">
            <a:off x="-78120" y="106596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nted By: George Niss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2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Nissen"/>
          <p:cNvPicPr/>
          <p:nvPr/>
        </p:nvPicPr>
        <p:blipFill>
          <a:blip r:embed="rId1"/>
          <a:stretch/>
        </p:blipFill>
        <p:spPr>
          <a:xfrm>
            <a:off x="0" y="0"/>
            <a:ext cx="26082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Nissen"/>
          <p:cNvPicPr/>
          <p:nvPr/>
        </p:nvPicPr>
        <p:blipFill>
          <a:blip r:embed="rId2"/>
          <a:srcRect l="28735" t="0" r="0" b="0"/>
          <a:stretch/>
        </p:blipFill>
        <p:spPr>
          <a:xfrm>
            <a:off x="2590920" y="0"/>
            <a:ext cx="6553080" cy="2666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514600" y="2590920"/>
            <a:ext cx="28954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melson MIT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rampol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December 1, 2011, </a:t>
            </a:r>
            <a:r>
              <a:rPr b="0" lang="en-US" sz="1800" spc="-1" strike="noStrike" u="sng">
                <a:solidFill>
                  <a:srgbClr val="ebf25a"/>
                </a:solidFill>
                <a:uFillTx/>
                <a:latin typeface="Arial"/>
                <a:hlinkClick r:id="rId3"/>
              </a:rPr>
              <a:t>http://web.mit.edu/invent/iow/nissen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5257800" y="2666880"/>
            <a:ext cx="3886200" cy="4191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955960" y="5294160"/>
            <a:ext cx="199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50292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3881520"/>
            <a:ext cx="22100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nge Funny World, Trampoline Fail, December 1, 2011,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ebf25a"/>
                </a:solidFill>
                <a:uFillTx/>
                <a:latin typeface="Arial"/>
                <a:hlinkClick r:id="rId5"/>
              </a:rPr>
              <a:t>http://strangefunnyworld.com/wp-content/uploads/2011/03/trampoline-fail-400x400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Invention: Trampolin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rampoline was first made in 1920 by George Niss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WW2 trampolines became extremely popular across the count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 though the company that made the apparatus was sold, the business was still a h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ople still use it in sports and recre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so families still enjoy and love trampoli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Inventor: George Nisse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orge Nissen was an inventor who created the trampoli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issen was born in 1914 in Ameri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 16 years old he started building his creative bouncing apparatu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issen brought his creation to his summer camp which there it was a HUGE h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ter WW2 Nissen started a corporation called “The Nissen Trampoline Corpor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1980 after selling his company he continued to invent items such as the bunsaver air cushion and the labtop exercyc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77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8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77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77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77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77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1" dur="77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77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8" dur="77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0" dur="77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2" dur="77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77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9" dur="77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3" dur="77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5:28:38Z</dcterms:created>
  <dc:creator>install</dc:creator>
  <dc:description/>
  <dc:language>en-US</dc:language>
  <cp:lastModifiedBy>install</cp:lastModifiedBy>
  <dcterms:modified xsi:type="dcterms:W3CDTF">2011-12-19T14:51:20Z</dcterms:modified>
  <cp:revision>10</cp:revision>
  <dc:subject/>
  <dc:title>Slide 1</dc:title>
</cp:coreProperties>
</file>